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E99-7DB1-4C22-AF94-A1520BC9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01A-BA99-4902-8C5D-25F44C3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276-87F5-4A22-B4B8-8EF0FFEB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1A2-B6AB-4FD3-A9C1-6FE56DEF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244-9DF9-4DA2-9337-C22A0CA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A6F-A65C-4E2F-A10A-D3731AA8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D04-5F46-4180-9AC3-B02A3F8F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8F5-4FC0-434C-921C-1B8A8B15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62A-836D-443D-A7C3-E7521E76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4F1-F6E5-4372-92FC-907ECB4B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CEA-197E-4735-B956-A178AB0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710-6CA0-4A64-BA8C-455BE5C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6E52-E165-4B0B-B394-561DA3030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3" descr="C:\Users\dwilliams2\AppData\Local\Microsoft\Windows\Temporary Internet Files\Content.IE5\6WO1AC7T\MP900262349[1].jpg"/>
          <p:cNvPicPr/>
          <p:nvPr/>
        </p:nvPicPr>
        <p:blipFill>
          <a:blip r:embed="rId1"/>
          <a:stretch/>
        </p:blipFill>
        <p:spPr>
          <a:xfrm>
            <a:off x="152280" y="228600"/>
            <a:ext cx="6477120" cy="8763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42480" y="2057400"/>
            <a:ext cx="48769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4" descr="C:\Users\dwilliams2\AppData\Local\Microsoft\Windows\Temporary Internet Files\Content.IE5\ES5BI6NL\MC900438105[1].wmf"/>
          <p:cNvPicPr/>
          <p:nvPr/>
        </p:nvPicPr>
        <p:blipFill>
          <a:blip r:embed="rId2"/>
          <a:stretch/>
        </p:blipFill>
        <p:spPr>
          <a:xfrm>
            <a:off x="4495680" y="457200"/>
            <a:ext cx="1868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Deborah Williams</cp:lastModifiedBy>
  <dcterms:modified xsi:type="dcterms:W3CDTF">2012-10-09T16:22:32Z</dcterms:modified>
  <cp:revision>6</cp:revision>
  <dc:subject/>
  <dc:title>PowerPoint Presentation</dc:title>
</cp:coreProperties>
</file>